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E9A-60F7-4ACB-8265-78196E5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0F2-E17A-404D-AC99-0A428747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8CA-F100-440E-943A-74969D00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02E-86C3-4842-A773-A593EFDD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B076-478D-4030-9850-735F4BE3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84F3-97A8-47EE-AF46-C38F8F4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7F10-573E-4299-BB0B-CA97B7E5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52D-4A08-4C8E-B7CC-541656D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54E2-90EE-412D-8CCF-2B5949EC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A9D4-630D-41FE-83D4-126A05A2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8942-AF83-4A1A-864C-E09945A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B10-68E4-463B-A77C-B0FDF593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124-2EE3-4977-8C39-C61FD0DF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4843-F981-406E-BCAB-18F2471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AA0-3977-42F2-AD4F-CEA81D5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B906-699F-4299-8ED3-96268880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94C-81D0-4A09-A325-DDFD4900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F64-0247-49B9-BF58-9110543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8EC-5293-4A65-AF55-059F28B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6FD-9D12-4AD5-A0FC-458BDF11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F30-E6AF-4B0E-8854-22967B5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440-49ED-4D58-A3B8-D528683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688-639C-49FC-B921-72E98394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16D-56E4-48E6-A31A-E4FDBEB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1AA-1BDD-45BF-9D55-1D3208A09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9FD-B601-4BF1-8C4E-897AB3ED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olor_mole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ass (solids and liquids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9" name="Content Placeholder 2" descr=""/>
          <p:cNvPicPr/>
          <p:nvPr/>
        </p:nvPicPr>
        <p:blipFill>
          <a:blip r:embed="rId1"/>
          <a:stretch/>
        </p:blipFill>
        <p:spPr>
          <a:xfrm>
            <a:off x="628560" y="1616040"/>
            <a:ext cx="791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6184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culations between mass/particles, particles/volume, and mass/volume are possible by first calculating the number of mo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molemap"/>
          <p:cNvPicPr/>
          <p:nvPr/>
        </p:nvPicPr>
        <p:blipFill>
          <a:blip r:embed="rId1"/>
          <a:stretch/>
        </p:blipFill>
        <p:spPr>
          <a:xfrm>
            <a:off x="1560600" y="30258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40384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@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mage002"/>
          <p:cNvPicPr/>
          <p:nvPr/>
        </p:nvPicPr>
        <p:blipFill>
          <a:blip r:embed="rId1"/>
          <a:stretch/>
        </p:blipFill>
        <p:spPr>
          <a:xfrm>
            <a:off x="380880" y="91440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304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ly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82.6% Fe &amp; 17.4% C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has a molar mass of 110.0 g/mol.  What is the molecular formula if it is 65.45% C, 5.45% H, and 29.09% 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FG02_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Picture 5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043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m002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m002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m002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m005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m005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Oval 24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Alex%20Molar%20M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olume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a specific set of conditions, namely STP (standard temperature and pressure,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 and 1 a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= 22.4 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Between Moles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→ Moles (divide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ow many moles are there in 3.8L of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ST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s → Volume   (multiply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at volume, in liters, does 0.5 moles of 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py at S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provided with the density of a gas at STP, then using the volume of 22.4L will allow you to calculate the molar mass of the g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nsity of a gas containing carbon and oxygen at STP is 1.25g/L.  What is the molar mass of this gas?  What is its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Dawn</cp:lastModifiedBy>
  <dcterms:modified xsi:type="dcterms:W3CDTF">2014-02-23T15:54:57Z</dcterms:modified>
  <cp:revision>52</cp:revision>
  <dc:subject/>
  <dc:title>Moles and Stoichiometry</dc:title>
</cp:coreProperties>
</file>